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7A509-E454-41DE-8D26-239C93751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76862-69F6-4CC6-93CE-F55B0D7E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9CC06-92DB-43F7-8420-F3F1CBC6E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F9C9E-FF1E-48A3-9542-D69651B1A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42230-133D-469A-8726-1CCC4A08E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0A15D-F5C5-4D48-BDC3-B156E59E0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E37B5-52F0-40FB-A636-5E5BF034F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28CD9-0839-40F8-948E-BFCA77230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FA994-15FC-48AB-8520-65DC672F3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5A578-B6CF-4E4C-883E-F025F4852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4AD5C-9353-474D-A926-9908A610D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1ABEE-5B6E-4CD2-B6DA-8532246DA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F7F1A-2CDF-4CE6-9398-CED55B8EB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CA8D4-5EB0-405C-B7CF-BE574A920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99BAC-4C41-4132-8840-9340E3EDF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EA520-F98B-47D5-9447-70D9B056B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441F5-AD79-4631-923D-14E52D030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39204-E1B7-4938-8E97-570D0C897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FCE4-16B0-4FD3-9F47-8B811C0F3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2F25B-2D7D-4F70-B57E-B394D0D14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AF432-9B8C-4511-8C5A-14CA50457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29BBB-06F7-4EC3-95E1-C9533E07F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24E3-D455-459E-94EA-6FBB62258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7544-A3EB-4823-BB73-BB86D21B0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FEDD-FD56-4984-84DF-8BF758AA1A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9C13-E95D-44AB-8A8E-D0029A1AB2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Animal Farm by</a:t>
            </a:r>
            <a:br>
              <a:rPr sz="5400"/>
            </a:br>
            <a:r>
              <a:rPr b="1" lang="en-US" sz="5400" spc="-1" strike="noStrike">
                <a:solidFill>
                  <a:srgbClr val="ffffb7"/>
                </a:solidFill>
                <a:latin typeface="Arial Black"/>
              </a:rPr>
              <a:t>     George Orwell</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Characters</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r. Jones</a:t>
            </a:r>
            <a:r>
              <a:rPr b="0" lang="en-US" sz="2400" spc="-1" strike="noStrike">
                <a:solidFill>
                  <a:srgbClr val="ffffff"/>
                </a:solidFill>
                <a:latin typeface="Arial"/>
              </a:rPr>
              <a:t> – owner of farm. Had been a decent master of the animals until farm hit harder times (symbolizing the Great Depression). He symbolizes the evils of capitalism and also Czar Nicholas II, the leader before Stali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Old Major</a:t>
            </a:r>
            <a:r>
              <a:rPr b="0" lang="en-US" sz="2400" spc="-1" strike="noStrike">
                <a:solidFill>
                  <a:srgbClr val="ffffff"/>
                </a:solidFill>
                <a:latin typeface="Arial"/>
              </a:rPr>
              <a:t> - This "purebred" of pigs is the kind, grand fatherly philosopher of change— an obvious metaphor for Karl Marx.   Old Major proposes a solution to the animals' desperate plight under the Jones "administration" when he inspires a rebellion of sorts among the anima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r. Fredrick</a:t>
            </a:r>
            <a:r>
              <a:rPr b="0" lang="en-US" sz="3200" spc="-1" strike="noStrike">
                <a:solidFill>
                  <a:srgbClr val="ffffff"/>
                </a:solidFill>
                <a:latin typeface="Arial"/>
              </a:rPr>
              <a:t> - The tough, shrewd operator of Pinchfield, a neighboring farm. Based on Adolf Hitl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r. Pilkington</a:t>
            </a:r>
            <a:r>
              <a:rPr b="0" lang="en-US" sz="3200" spc="-1" strike="noStrike">
                <a:solidFill>
                  <a:srgbClr val="ffffff"/>
                </a:solidFill>
                <a:latin typeface="Arial"/>
              </a:rPr>
              <a:t> - The easygoing gentleman farmer who runs Foxwood, a neighboring farm. Mr. Frederick's bitter enemy, Mr. Pilkington represents the capitalist governments of England and the United Sta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apoleon</a:t>
            </a:r>
            <a:r>
              <a:rPr b="1" lang="en-US" sz="3200" spc="-1" strike="noStrike">
                <a:solidFill>
                  <a:srgbClr val="ffffff"/>
                </a:solidFill>
                <a:latin typeface="Arial"/>
              </a:rPr>
              <a:t> </a:t>
            </a:r>
            <a:r>
              <a:rPr b="0" lang="en-US" sz="3200" spc="-1" strike="noStrike">
                <a:solidFill>
                  <a:srgbClr val="ffffff"/>
                </a:solidFill>
                <a:latin typeface="Arial"/>
              </a:rPr>
              <a:t>- The pig who emerges as the leader of Animal Farm after the Rebellion. Based on Joseph Stalin, Napoleon uses military force (his nine loyal attack dogs) to intimidate the other animals and consolidate his pow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nowball </a:t>
            </a:r>
            <a:r>
              <a:rPr b="0" lang="en-US" sz="2800" spc="-1" strike="noStrike">
                <a:solidFill>
                  <a:srgbClr val="ffffff"/>
                </a:solidFill>
                <a:latin typeface="Arial"/>
              </a:rPr>
              <a:t>- The pig who challenges Napoleon for control of Animal Farm after the Rebellion. Based on Leon Trotsk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oxer </a:t>
            </a:r>
            <a:r>
              <a:rPr b="0" lang="en-US" sz="2800" spc="-1" strike="noStrike">
                <a:solidFill>
                  <a:srgbClr val="ffffff"/>
                </a:solidFill>
                <a:latin typeface="Arial"/>
              </a:rPr>
              <a:t>- The cart-horse whose incredible strength, dedication, and loyalty play a key role in the early prosperity of Animal Farm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quealer </a:t>
            </a:r>
            <a:r>
              <a:rPr b="0" lang="en-US" sz="2800" spc="-1" strike="noStrike">
                <a:solidFill>
                  <a:srgbClr val="ffffff"/>
                </a:solidFill>
                <a:latin typeface="Arial"/>
              </a:rPr>
              <a:t>- The pig who spreads Napoleon's propaganda among the other anim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lover </a:t>
            </a:r>
            <a:r>
              <a:rPr b="0" lang="en-US" sz="2400" spc="-1" strike="noStrike">
                <a:solidFill>
                  <a:srgbClr val="ffffff"/>
                </a:solidFill>
                <a:latin typeface="Arial"/>
              </a:rPr>
              <a:t>- A good-hearted female cart-horse and Boxer's close friend. Clover often suspects the pigs of violating one or another of the Seven Commandment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oses </a:t>
            </a:r>
            <a:r>
              <a:rPr b="0" lang="en-US" sz="2400" spc="-1" strike="noStrike">
                <a:solidFill>
                  <a:srgbClr val="ffffff"/>
                </a:solidFill>
                <a:latin typeface="Arial"/>
              </a:rPr>
              <a:t>- The tame raven who spreads stories of Sugarcandy Mountain, the paradise to which animals supposedly go when they die.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ollie</a:t>
            </a:r>
            <a:r>
              <a:rPr b="0" lang="en-US" sz="2400" spc="-1" strike="noStrike">
                <a:solidFill>
                  <a:srgbClr val="ffffff"/>
                </a:solidFill>
                <a:latin typeface="Arial"/>
              </a:rPr>
              <a:t> - vain, flighty mare who pulls Mr. Jones's carriage. Mollie craves the attention of human beings and loves being groomed and pampered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enjamin</a:t>
            </a:r>
            <a:r>
              <a:rPr b="0" lang="en-US" sz="2400" spc="-1" strike="noStrike">
                <a:solidFill>
                  <a:srgbClr val="ffffff"/>
                </a:solidFill>
                <a:latin typeface="Arial"/>
              </a:rPr>
              <a:t> - The long-lived donkey who refuses to feel inspired by the Rebell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Novel</a:t>
            </a:r>
            <a:br>
              <a:rPr sz="4400"/>
            </a:b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enjoy the book as a simple animal story.</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it is possible to read without knowing the historical background,</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ing the world’s situation during the 1940s adds interest to the novel.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olitical and societal references are found in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eep Reading!</a:t>
            </a:r>
            <a:br>
              <a:rPr sz="4400"/>
            </a:b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ough historical events of the 40s influenced the novel, the themes are still relevant to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well stressed the universality of his book by using animals for characters and by not setting the story in a specific er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ssages are still important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Satire </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l Farm is a satire –a literary composition, in verse or prose, in which human folly and vice are held up to scorn, derision, or ridicule. </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rget was the USSR, or the Soviet Union, who was a military ally of Great Britain during WWII.</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rld War II</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9 England declared war on German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is time no one thought that the Soviet Union and England would be allie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many were stunned by the news that a Soviet-German nonaggression pact was made.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lf Hitler and Joseph Stalin secretly worked out the agreement, while the Soviet leader (Stalin) publicly pursued an alliance with Great Britain and France against Germany (Hitl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Shocking Union </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rld, which had for several years watched Germany's expansionist moves, was suddenly confronted with the Soviet Union doing the same thing.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on the situation: "Suddenly the scum of the earth and the bloodstained butcher of the workers were marching arm in arm, their friendship 'cemented in blood,' as Stalin cheerily expressed i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portrays the Hitler-Stalin pact in his novel Animal Farm as the agreement between Mr. Frederick and Napole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re War </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t looked like Germany was preparing to invade England, Orwell and his wife moved from their home where they raised animals to London.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r changed when the Soviet Union was unexpectedly invaded by the Germans in June 1941. Still stung by Stalin's betrayal just two years earlier, the Allies (France, England, and—after Pearl Harbor—the United States) were nevertheless forced to join him in order to defeat Hitl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rwell vs. Stalin </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was angry with Stalin and what he did.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wrote: "I thought of exposing the Soviet (Stalin’s) myth in a story that could be easily understood by almost anyone and which could be easily translated into other languages."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knew he would have trouble publishing it because Stalin had become quite popular in England as the one who saved England from an invasion.</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couldn't forgive the Soviet leader's complicity with Hitler, or his bloody reshaping of the Soviet Communist Party during the 1930s which resulted in the death or deportation of hundreds of thousands of Russia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Aftermath </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finished in February 1944, </a:t>
            </a:r>
            <a:r>
              <a:rPr b="0" i="1" lang="en-US" sz="2400" spc="-1" strike="noStrike">
                <a:solidFill>
                  <a:srgbClr val="ffffff"/>
                </a:solidFill>
                <a:latin typeface="Arial"/>
              </a:rPr>
              <a:t>Animal Farm</a:t>
            </a:r>
            <a:r>
              <a:rPr b="0" lang="en-US" sz="2400" spc="-1" strike="noStrike">
                <a:solidFill>
                  <a:srgbClr val="ffffff"/>
                </a:solidFill>
                <a:latin typeface="Arial"/>
              </a:rPr>
              <a:t> wasn't published until 1945, a pivotal year in world history- the war had ended, but it was also the year the first nuclear bomb was used. </a:t>
            </a: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st of the war was staggering: estimates set the monetary cost at one trillion dollars, while an estimated 60 million people lost their lives. </a:t>
            </a: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r had allowed only the United States and the Soviet Union to survive as world powers. So the end of the war brought the beginning of a Cold War, an ideological conflict pitting the Soviet Union and its allies against the United States and its allies, that persisted with varying degrees of intensity until the collapse of the Soviet Union in 1991.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4:38:22Z</dcterms:created>
  <dc:creator>generic</dc:creator>
  <dc:description/>
  <dc:language>en-US</dc:language>
  <cp:lastModifiedBy>generic</cp:lastModifiedBy>
  <dcterms:modified xsi:type="dcterms:W3CDTF">2008-11-12T15:51:37Z</dcterms:modified>
  <cp:revision>3</cp:revision>
  <dc:subject/>
  <dc:title>Animal Farm by      George Orwell</dc:title>
</cp:coreProperties>
</file>